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AF4-C0FB-4280-BE6A-5B376881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0AA-9DFB-4770-87D1-1A97E43B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6AB-FBFB-449F-9878-2CCD7F67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1E6-7DF4-4142-8394-0A37EDAE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EB5-2A00-4DB2-ACE5-2BDB11A5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559-707C-4435-97BE-2DA10761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B1F-2CB3-4773-B2CF-1A98556F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CB4-27A7-43B2-8254-2DC781D3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B2E-EBE8-4CAF-B48A-CB210194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A02-4862-442B-B88F-E8E07082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0B7-6589-4028-B2DE-BFEFA03D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6AB-89DD-4BD4-8817-13C1359A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248A-FFE4-4D45-B7FB-4F40FE2A5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arity@afghan.swa.army.mil" TargetMode="External"/><Relationship Id="rId2" Type="http://schemas.openxmlformats.org/officeDocument/2006/relationships/hyperlink" Target="file:///../default.aspx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09480" y="228600"/>
            <a:ext cx="77724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Volunteer Community Relations (VCR) is an all-volunteer program made possible by the generous donations of new and gently used clothing, shoes, toys, blankets, and school supplies from friends &amp; family back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anks for your follow throug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Book Antiqua"/>
                <a:hlinkClick r:id="rId1"/>
              </a:rPr>
              <a:t>charity@afghan.swa.army.mi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314440" y="3809880"/>
            <a:ext cx="4496040" cy="157212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VCR Program (Pool 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STC-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PO, AE 093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s from multiple VCR members &amp; 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neteam.centcom.mil/default.aspx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5:52:59Z</dcterms:created>
  <dc:creator>samuel.e.timmons</dc:creator>
  <dc:description/>
  <dc:language>en-US</dc:language>
  <cp:lastModifiedBy>samuel.e.timmons</cp:lastModifiedBy>
  <dcterms:modified xsi:type="dcterms:W3CDTF">2008-04-25T15:59:47Z</dcterms:modified>
  <cp:revision>2</cp:revision>
  <dc:subject/>
  <dc:title>VCR Contact / Donation 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Picture</vt:lpwstr>
  </property>
</Properties>
</file>